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4" y="0"/>
                </a:moveTo>
                <a:arcTo wR="4" hR="4" stAng="16200000" swAng="-5400000"/>
                <a:lnTo>
                  <a:pt x="0" y="28796"/>
                </a:lnTo>
                <a:arcTo wR="4" hR="4" stAng="10800000" swAng="-5400000"/>
                <a:lnTo>
                  <a:pt x="21596" y="2880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84360"/>
                <a:tab algn="l" pos="1370160"/>
                <a:tab algn="l" pos="2054160"/>
                <a:tab algn="l" pos="2738520"/>
                <a:tab algn="l" pos="3022560"/>
                <a:tab algn="l" pos="3454560"/>
                <a:tab algn="l" pos="3886200"/>
                <a:tab algn="l" pos="4317840"/>
                <a:tab algn="l" pos="4749840"/>
                <a:tab algn="l" pos="5181480"/>
                <a:tab algn="l" pos="5613480"/>
                <a:tab algn="l" pos="6045120"/>
                <a:tab algn="l" pos="6477120"/>
                <a:tab algn="l" pos="6908760"/>
                <a:tab algn="l" pos="7340760"/>
                <a:tab algn="l" pos="7772400"/>
                <a:tab algn="l" pos="8204040"/>
                <a:tab algn="l" pos="8636040"/>
                <a:tab algn="l" pos="9067680"/>
                <a:tab algn="l" pos="9499680"/>
                <a:tab algn="l" pos="9931320"/>
                <a:tab algn="l" pos="10363320"/>
                <a:tab algn="l" pos="10794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4360"/>
                <a:tab algn="l" pos="1370160"/>
                <a:tab algn="l" pos="2054160"/>
                <a:tab algn="l" pos="2738520"/>
                <a:tab algn="l" pos="3022560"/>
                <a:tab algn="l" pos="3454560"/>
                <a:tab algn="l" pos="3886200"/>
                <a:tab algn="l" pos="4317840"/>
                <a:tab algn="l" pos="4749840"/>
                <a:tab algn="l" pos="5181480"/>
                <a:tab algn="l" pos="5613480"/>
                <a:tab algn="l" pos="6045120"/>
                <a:tab algn="l" pos="6477120"/>
                <a:tab algn="l" pos="6908760"/>
                <a:tab algn="l" pos="7340760"/>
                <a:tab algn="l" pos="7772400"/>
                <a:tab algn="l" pos="8204040"/>
                <a:tab algn="l" pos="8636040"/>
                <a:tab algn="l" pos="9067680"/>
                <a:tab algn="l" pos="9499680"/>
                <a:tab algn="l" pos="9931320"/>
                <a:tab algn="l" pos="10363320"/>
                <a:tab algn="l" pos="10794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4360"/>
                <a:tab algn="l" pos="1370160"/>
                <a:tab algn="l" pos="2054160"/>
                <a:tab algn="l" pos="2738520"/>
                <a:tab algn="l" pos="3022560"/>
                <a:tab algn="l" pos="3454560"/>
                <a:tab algn="l" pos="3886200"/>
                <a:tab algn="l" pos="4317840"/>
                <a:tab algn="l" pos="4749840"/>
                <a:tab algn="l" pos="5181480"/>
                <a:tab algn="l" pos="5613480"/>
                <a:tab algn="l" pos="6045120"/>
                <a:tab algn="l" pos="6477120"/>
                <a:tab algn="l" pos="6908760"/>
                <a:tab algn="l" pos="7340760"/>
                <a:tab algn="l" pos="7772400"/>
                <a:tab algn="l" pos="8204040"/>
                <a:tab algn="l" pos="8636040"/>
                <a:tab algn="l" pos="9067680"/>
                <a:tab algn="l" pos="9499680"/>
                <a:tab algn="l" pos="9931320"/>
                <a:tab algn="l" pos="10363320"/>
                <a:tab algn="l" pos="10794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4080" y="682560"/>
            <a:ext cx="4573800" cy="343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4960" rIns="849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Lucida Sans Unicode"/>
              </a:rPr>
              <a:t>Click to move the slide</a:t>
            </a:r>
            <a:endParaRPr b="1" lang="en-US" sz="44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7640" y="4343040"/>
            <a:ext cx="502272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84360"/>
                <a:tab algn="l" pos="1370160"/>
                <a:tab algn="l" pos="2054160"/>
                <a:tab algn="l" pos="2738520"/>
                <a:tab algn="l" pos="3022560"/>
                <a:tab algn="l" pos="3454560"/>
                <a:tab algn="l" pos="3886200"/>
                <a:tab algn="l" pos="4317840"/>
                <a:tab algn="l" pos="4749840"/>
                <a:tab algn="l" pos="5181480"/>
                <a:tab algn="l" pos="5613480"/>
                <a:tab algn="l" pos="6045120"/>
                <a:tab algn="l" pos="6477120"/>
                <a:tab algn="l" pos="6908760"/>
                <a:tab algn="l" pos="7340760"/>
                <a:tab algn="l" pos="7772400"/>
                <a:tab algn="l" pos="8204040"/>
                <a:tab algn="l" pos="8636040"/>
                <a:tab algn="l" pos="9067680"/>
                <a:tab algn="l" pos="9499680"/>
                <a:tab algn="l" pos="9931320"/>
                <a:tab algn="l" pos="10363320"/>
                <a:tab algn="l" pos="10794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84360"/>
                <a:tab algn="l" pos="1370160"/>
                <a:tab algn="l" pos="2054160"/>
                <a:tab algn="l" pos="2738520"/>
                <a:tab algn="l" pos="3022560"/>
                <a:tab algn="l" pos="3454560"/>
                <a:tab algn="l" pos="3886200"/>
                <a:tab algn="l" pos="4317840"/>
                <a:tab algn="l" pos="4749840"/>
                <a:tab algn="l" pos="5181480"/>
                <a:tab algn="l" pos="5613480"/>
                <a:tab algn="l" pos="6045120"/>
                <a:tab algn="l" pos="6477120"/>
                <a:tab algn="l" pos="6908760"/>
                <a:tab algn="l" pos="7340760"/>
                <a:tab algn="l" pos="7772400"/>
                <a:tab algn="l" pos="8204040"/>
                <a:tab algn="l" pos="8636040"/>
                <a:tab algn="l" pos="9067680"/>
                <a:tab algn="l" pos="9499680"/>
                <a:tab algn="l" pos="9931320"/>
                <a:tab algn="l" pos="10363320"/>
                <a:tab algn="l" pos="10794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5"/>
          </p:nvPr>
        </p:nvSpPr>
        <p:spPr>
          <a:xfrm>
            <a:off x="388584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84360"/>
                <a:tab algn="l" pos="1370160"/>
                <a:tab algn="l" pos="2054160"/>
                <a:tab algn="l" pos="2738520"/>
                <a:tab algn="l" pos="3022560"/>
                <a:tab algn="l" pos="3454560"/>
                <a:tab algn="l" pos="3886200"/>
                <a:tab algn="l" pos="4317840"/>
                <a:tab algn="l" pos="4749840"/>
                <a:tab algn="l" pos="5181480"/>
                <a:tab algn="l" pos="5613480"/>
                <a:tab algn="l" pos="6045120"/>
                <a:tab algn="l" pos="6477120"/>
                <a:tab algn="l" pos="6908760"/>
                <a:tab algn="l" pos="7340760"/>
                <a:tab algn="l" pos="7772400"/>
                <a:tab algn="l" pos="8204040"/>
                <a:tab algn="l" pos="8636040"/>
                <a:tab algn="l" pos="9067680"/>
                <a:tab algn="l" pos="9499680"/>
                <a:tab algn="l" pos="9931320"/>
                <a:tab algn="l" pos="10363320"/>
                <a:tab algn="l" pos="10794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84360"/>
                <a:tab algn="l" pos="1370160"/>
                <a:tab algn="l" pos="2054160"/>
                <a:tab algn="l" pos="2738520"/>
                <a:tab algn="l" pos="3022560"/>
                <a:tab algn="l" pos="3454560"/>
                <a:tab algn="l" pos="3886200"/>
                <a:tab algn="l" pos="4317840"/>
                <a:tab algn="l" pos="4749840"/>
                <a:tab algn="l" pos="5181480"/>
                <a:tab algn="l" pos="5613480"/>
                <a:tab algn="l" pos="6045120"/>
                <a:tab algn="l" pos="6477120"/>
                <a:tab algn="l" pos="6908760"/>
                <a:tab algn="l" pos="7340760"/>
                <a:tab algn="l" pos="7772400"/>
                <a:tab algn="l" pos="8204040"/>
                <a:tab algn="l" pos="8636040"/>
                <a:tab algn="l" pos="9067680"/>
                <a:tab algn="l" pos="9499680"/>
                <a:tab algn="l" pos="9931320"/>
                <a:tab algn="l" pos="10363320"/>
                <a:tab algn="l" pos="10794960"/>
              </a:tabLst>
            </a:pPr>
            <a:fld id="{43D4F442-9311-4BDD-A3DD-E9DCA4ED21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88584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4360"/>
                <a:tab algn="l" pos="1370160"/>
                <a:tab algn="l" pos="2054160"/>
                <a:tab algn="l" pos="2738520"/>
                <a:tab algn="l" pos="3022560"/>
                <a:tab algn="l" pos="3454560"/>
                <a:tab algn="l" pos="3886200"/>
                <a:tab algn="l" pos="4317840"/>
                <a:tab algn="l" pos="4749840"/>
                <a:tab algn="l" pos="5181480"/>
                <a:tab algn="l" pos="5613480"/>
                <a:tab algn="l" pos="6045120"/>
                <a:tab algn="l" pos="6477120"/>
                <a:tab algn="l" pos="6908760"/>
                <a:tab algn="l" pos="7340760"/>
                <a:tab algn="l" pos="7772400"/>
                <a:tab algn="l" pos="8204040"/>
                <a:tab algn="l" pos="8636040"/>
                <a:tab algn="l" pos="9067680"/>
                <a:tab algn="l" pos="9499680"/>
                <a:tab algn="l" pos="9931320"/>
                <a:tab algn="l" pos="10363320"/>
                <a:tab algn="l" pos="10794960"/>
              </a:tabLst>
            </a:pPr>
            <a:fld id="{B1E9D3A6-6A14-4727-803E-A5E58EDC1B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70160"/>
                <a:tab algn="l" pos="2054160"/>
                <a:tab algn="l" pos="2738520"/>
                <a:tab algn="l" pos="3022560"/>
                <a:tab algn="l" pos="3454560"/>
                <a:tab algn="l" pos="3886200"/>
                <a:tab algn="l" pos="4317840"/>
                <a:tab algn="l" pos="4749840"/>
                <a:tab algn="l" pos="5181480"/>
                <a:tab algn="l" pos="5613480"/>
                <a:tab algn="l" pos="6045120"/>
                <a:tab algn="l" pos="6477120"/>
                <a:tab algn="l" pos="6908760"/>
                <a:tab algn="l" pos="7340760"/>
                <a:tab algn="l" pos="7772400"/>
                <a:tab algn="l" pos="8204040"/>
                <a:tab algn="l" pos="8636040"/>
                <a:tab algn="l" pos="9067680"/>
                <a:tab algn="l" pos="9499680"/>
                <a:tab algn="l" pos="9931320"/>
                <a:tab algn="l" pos="10363320"/>
                <a:tab algn="l" pos="10794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70160"/>
                <a:tab algn="l" pos="2054160"/>
                <a:tab algn="l" pos="2738520"/>
                <a:tab algn="l" pos="3022560"/>
                <a:tab algn="l" pos="3454560"/>
                <a:tab algn="l" pos="3886200"/>
                <a:tab algn="l" pos="4317840"/>
                <a:tab algn="l" pos="4749840"/>
                <a:tab algn="l" pos="5181480"/>
                <a:tab algn="l" pos="5613480"/>
                <a:tab algn="l" pos="6045120"/>
                <a:tab algn="l" pos="6477120"/>
                <a:tab algn="l" pos="6908760"/>
                <a:tab algn="l" pos="7340760"/>
                <a:tab algn="l" pos="7772400"/>
                <a:tab algn="l" pos="8204040"/>
                <a:tab algn="l" pos="8636040"/>
                <a:tab algn="l" pos="9067680"/>
                <a:tab algn="l" pos="9499680"/>
                <a:tab algn="l" pos="9931320"/>
                <a:tab algn="l" pos="10363320"/>
                <a:tab algn="l" pos="10794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885840" y="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4360"/>
                <a:tab algn="l" pos="1370160"/>
                <a:tab algn="l" pos="2054160"/>
                <a:tab algn="l" pos="2738520"/>
                <a:tab algn="l" pos="3022560"/>
                <a:tab algn="l" pos="3454560"/>
                <a:tab algn="l" pos="3886200"/>
                <a:tab algn="l" pos="4317840"/>
                <a:tab algn="l" pos="4749840"/>
                <a:tab algn="l" pos="5181480"/>
                <a:tab algn="l" pos="5613480"/>
                <a:tab algn="l" pos="6045120"/>
                <a:tab algn="l" pos="6477120"/>
                <a:tab algn="l" pos="6908760"/>
                <a:tab algn="l" pos="7340760"/>
                <a:tab algn="l" pos="7772400"/>
                <a:tab algn="l" pos="8204040"/>
                <a:tab algn="l" pos="8636040"/>
                <a:tab algn="l" pos="9067680"/>
                <a:tab algn="l" pos="9499680"/>
                <a:tab algn="l" pos="9931320"/>
                <a:tab algn="l" pos="10363320"/>
                <a:tab algn="l" pos="10794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960" y="3928680"/>
            <a:ext cx="8915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4350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4360" y="1142640"/>
            <a:ext cx="4350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960" y="3928680"/>
            <a:ext cx="4350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4360" y="3928680"/>
            <a:ext cx="4350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28706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90600" y="1142640"/>
            <a:ext cx="28706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5240" y="1142640"/>
            <a:ext cx="28706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960" y="3928680"/>
            <a:ext cx="28706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90600" y="3928680"/>
            <a:ext cx="28706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5240" y="3928680"/>
            <a:ext cx="28706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435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4360" y="1142640"/>
            <a:ext cx="435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4350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4360" y="1142640"/>
            <a:ext cx="435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5960" y="3928680"/>
            <a:ext cx="4350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435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4360" y="1142640"/>
            <a:ext cx="4350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44360" y="3928680"/>
            <a:ext cx="4350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4350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4360" y="1142640"/>
            <a:ext cx="4350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5960" y="3928680"/>
            <a:ext cx="8915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5960" y="3928680"/>
            <a:ext cx="8915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4350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4360" y="1142640"/>
            <a:ext cx="4350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5960" y="3928680"/>
            <a:ext cx="4350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44360" y="3928680"/>
            <a:ext cx="4350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28706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0600" y="1142640"/>
            <a:ext cx="28706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5240" y="1142640"/>
            <a:ext cx="28706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5960" y="3928680"/>
            <a:ext cx="28706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0600" y="3928680"/>
            <a:ext cx="28706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5240" y="3928680"/>
            <a:ext cx="28706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435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4360" y="1142640"/>
            <a:ext cx="435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4350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4360" y="1142640"/>
            <a:ext cx="435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960" y="3928680"/>
            <a:ext cx="4350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435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4360" y="1142640"/>
            <a:ext cx="4350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4360" y="3928680"/>
            <a:ext cx="4350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4350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360" y="1142640"/>
            <a:ext cx="4350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960" y="3928680"/>
            <a:ext cx="8915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858000" y="6443640"/>
            <a:ext cx="2286000" cy="4096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Click to edit the title text format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127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7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2" marL="1143000" indent="-228600">
              <a:spcBef>
                <a:spcPts val="799"/>
              </a:spcBef>
              <a:buClr>
                <a:srgbClr val="339933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3" marL="1600200" indent="-228600">
              <a:spcBef>
                <a:spcPts val="799"/>
              </a:spcBef>
              <a:buClr>
                <a:srgbClr val="339933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4" marL="2057400" indent="-228600">
              <a:spcBef>
                <a:spcPts val="799"/>
              </a:spcBef>
              <a:buClr>
                <a:srgbClr val="339933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895480" y="6477120"/>
            <a:ext cx="3200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9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  <a:ea typeface="Arial"/>
              </a:rPr>
              <a:t>04/16/2008 - </a:t>
            </a:r>
            <a:r>
              <a:rPr b="0" lang="en-US" sz="1000" spc="-1" strike="noStrike">
                <a:solidFill>
                  <a:srgbClr val="000099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32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  <a:ea typeface="Arial"/>
              </a:rPr>
              <a:t>CELF-2008-SVC-</a:t>
            </a:r>
            <a:fld id="{C5121CCD-A36F-4CAF-AF4F-51C7D01D8258}" type="slidenum">
              <a:rPr b="0" lang="en-US" sz="1000" spc="-1" strike="noStrike">
                <a:solidFill>
                  <a:srgbClr val="000099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792920" y="0"/>
            <a:ext cx="1351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127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Lucida Sans Unicode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2"/>
          </p:nvPr>
        </p:nvSpPr>
        <p:spPr>
          <a:xfrm>
            <a:off x="2971800" y="6477120"/>
            <a:ext cx="3200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9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  <a:ea typeface="Arial"/>
              </a:rPr>
              <a:t>04/16/2008 - </a:t>
            </a:r>
            <a:r>
              <a:rPr b="0" lang="en-US" sz="1000" spc="-1" strike="noStrike">
                <a:solidFill>
                  <a:srgbClr val="000099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  <a:ea typeface="Arial"/>
              </a:rPr>
              <a:t>CELF-2008-SVC-</a:t>
            </a:r>
            <a:fld id="{5C240F17-6714-4E59-82E2-B996F71697AB}" type="slidenum">
              <a:rPr b="0" lang="en-US" sz="1000" spc="-1" strike="noStrike">
                <a:solidFill>
                  <a:srgbClr val="000099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2" marL="914400" algn="ctr">
              <a:spcBef>
                <a:spcPts val="601"/>
              </a:spcBef>
              <a:buClr>
                <a:srgbClr val="339933"/>
              </a:buClr>
              <a:buFont typeface="Lucida Sans Unicod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3" marL="1371600" algn="ctr">
              <a:spcBef>
                <a:spcPts val="499"/>
              </a:spcBef>
              <a:buClr>
                <a:srgbClr val="339933"/>
              </a:buClr>
              <a:buFont typeface="Lucida Sans Unicode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lvl="4" marL="1828800" algn="ctr">
              <a:spcBef>
                <a:spcPts val="499"/>
              </a:spcBef>
              <a:buClr>
                <a:srgbClr val="339933"/>
              </a:buClr>
              <a:buFont typeface="Lucida Sans Unicode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epitools.com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562320"/>
            <a:ext cx="6629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Lucida Sans Unicode"/>
              </a:rPr>
              <a:t>Using a JTAG in Linux Driver Debugging</a:t>
            </a:r>
            <a:endParaRPr b="1" lang="en-US" sz="44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352320" y="2666880"/>
            <a:ext cx="4800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Supporting New Hardware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4640400"/>
            <a:ext cx="396252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Lucida Sans Unicode"/>
                <a:ea typeface="Arial"/>
              </a:rPr>
              <a:t>Mike And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Lucida Sans Unicode"/>
                <a:ea typeface="Arial"/>
              </a:rPr>
              <a:t>Chief Scient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Lucida Sans Unicode"/>
                <a:ea typeface="Arial"/>
              </a:rPr>
              <a:t>The PTR Group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Lucida Sans Unicode"/>
                <a:ea typeface="Arial"/>
              </a:rPr>
              <a:t>http://www.theptrgroup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Old School Driver Registration #2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6924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Likewise, when a device driver removes itself from the system, it should unregister itself from the kernel to free up that major number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Typically in the </a:t>
            </a:r>
            <a:r>
              <a:rPr b="0" lang="en-US" sz="3200" spc="-1" strike="noStrike">
                <a:solidFill>
                  <a:srgbClr val="cc0000"/>
                </a:solidFill>
                <a:latin typeface="Lucida Sans Unicode"/>
              </a:rPr>
              <a:t>__exit</a:t>
            </a: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 function: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unregister_chrdev(unsign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int major, const char *name);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6934320" y="2057400"/>
            <a:ext cx="1714320" cy="220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New-School Driver Registration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If you need to get beyond the 256 major limit, you’ll need to use a different approach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This uses a different API, dev_t, cdev structures and a much more involved registration approach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All of this is beyond scope for the current discussion, however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Lucida Sans Unicode"/>
              </a:rPr>
              <a:t>Giving Your Driver Something to do</a:t>
            </a:r>
            <a:endParaRPr b="1" lang="en-US" sz="36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Character device driver exports services in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ile_operations</a:t>
            </a: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 structure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There are 26 supported operations in the 2.6 kernel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lvl="2" marL="1143000" indent="-228600"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Lucida Sans Unicode"/>
              </a:rPr>
              <a:t>Up from 17 in the 2.4.kernel</a:t>
            </a:r>
            <a:endParaRPr b="0" lang="en-US" sz="18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You only supply those calls that make sense for your device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You can explicitly return error codes for unsupported functions or have the system return the default ENOTSUPP error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Typically, the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ile_operations</a:t>
            </a: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 structure is statically initialized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Using C99 tagged initializer format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struct file_operations</a:t>
            </a: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 #1 of 2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ruct file_operations {</a:t>
            </a:r>
            <a:endParaRPr b="0" lang="en-US" sz="15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ruct module *owner;</a:t>
            </a:r>
            <a:endParaRPr b="0" lang="en-US" sz="15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loff_t  (*llseek) (struct file *, loff_t, int);</a:t>
            </a:r>
            <a:endParaRPr b="0" lang="en-US" sz="15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size_t (*read) (struct file *, char __user *, size_t, loff_t *);</a:t>
            </a:r>
            <a:endParaRPr b="0" lang="en-US" sz="15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size_t (*aio_read) (struct kiocb *, char __user *, size_t, loff_t);</a:t>
            </a:r>
            <a:endParaRPr b="0" lang="en-US" sz="15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size_t (*write) (struct file *, const char __user *, size_t, </a:t>
            </a:r>
            <a:endParaRPr b="0" lang="en-US" sz="15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loff_t *);</a:t>
            </a:r>
            <a:endParaRPr b="0" lang="en-US" sz="15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size_t (*aio_write) (struct kiocb *, const char __user *, </a:t>
            </a:r>
            <a:endParaRPr b="0" lang="en-US" sz="15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ize_t, loff_t);</a:t>
            </a:r>
            <a:endParaRPr b="0" lang="en-US" sz="15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     (*readdir) (struct file *, void *, filldir_t);</a:t>
            </a:r>
            <a:endParaRPr b="0" lang="en-US" sz="15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unsigned int (*poll) (struct file *, struct poll_table_struct *);</a:t>
            </a:r>
            <a:endParaRPr b="0" lang="en-US" sz="15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     (*ioctl) (struct inode *, struct file *, unsigned int, </a:t>
            </a:r>
            <a:endParaRPr b="0" lang="en-US" sz="15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unsigned long);</a:t>
            </a:r>
            <a:endParaRPr b="0" lang="en-US" sz="15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long    (*unlocked_ioctl) (struct file *, unsigned int, unsigned long);</a:t>
            </a:r>
            <a:endParaRPr b="0" lang="en-US" sz="15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long    (*compat_ioctl) (struct file *, unsigned int, unsigned long);</a:t>
            </a:r>
            <a:endParaRPr b="0" lang="en-US" sz="15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     (*mmap) (struct file *, struct vm_area_struct *);</a:t>
            </a:r>
            <a:endParaRPr b="0" lang="en-US" sz="15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     (*open) (struct inode *, struct file *);</a:t>
            </a:r>
            <a:endParaRPr b="0" lang="en-US" sz="15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     (*flush) (struct file *);</a:t>
            </a:r>
            <a:endParaRPr b="0" lang="en-US" sz="15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struct file_operations</a:t>
            </a: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 #2 of 2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    (*release) (struct inode *, struct file *);</a:t>
            </a:r>
            <a:endParaRPr b="0" lang="en-US" sz="1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    (*fsync) (struct file *, struct dentry *, int datasync);</a:t>
            </a:r>
            <a:endParaRPr b="0" lang="en-US" sz="1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    (*aio_fsync) (struct kiocb *, int datasync);</a:t>
            </a:r>
            <a:endParaRPr b="0" lang="en-US" sz="1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    (*fasync) (int, struct file *, int);</a:t>
            </a:r>
            <a:endParaRPr b="0" lang="en-US" sz="1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    (*lock) (struct file *, int, struct file_lock *);</a:t>
            </a:r>
            <a:endParaRPr b="0" lang="en-US" sz="1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size_t (*readv) (struct file *, const struct iovec *, unsigned long, </a:t>
            </a:r>
            <a:endParaRPr b="0" lang="en-US" sz="1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off_t *);</a:t>
            </a:r>
            <a:endParaRPr b="0" lang="en-US" sz="1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size_t (*writev) (struct file *, const struct iovec *, unsigned long, </a:t>
            </a:r>
            <a:endParaRPr b="0" lang="en-US" sz="1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off_t *);</a:t>
            </a:r>
            <a:endParaRPr b="0" lang="en-US" sz="1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size_t (*sendfile) (struct file *, loff_t *, size_t, read_actor_t, void *);</a:t>
            </a:r>
            <a:endParaRPr b="0" lang="en-US" sz="1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size_t (*sendpage) (struct file *, struct page *, int, size_t, </a:t>
            </a:r>
            <a:endParaRPr b="0" lang="en-US" sz="1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off_t *, int);</a:t>
            </a:r>
            <a:endParaRPr b="0" lang="en-US" sz="1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nsigned long (*get_unmapped_area)(struct file *, unsigned long, </a:t>
            </a:r>
            <a:endParaRPr b="0" lang="en-US" sz="1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nsigned long, unsigned long, unsigned long);</a:t>
            </a:r>
            <a:endParaRPr b="0" lang="en-US" sz="1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    (*check_flags)(int);</a:t>
            </a:r>
            <a:endParaRPr b="0" lang="en-US" sz="1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    (*dir_notify)(struct file *filp, unsigned long arg);</a:t>
            </a:r>
            <a:endParaRPr b="0" lang="en-US" sz="1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    (*flock) (struct file *, int, struct file_lock *);</a:t>
            </a:r>
            <a:endParaRPr b="0" lang="en-US" sz="1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Which File Operations do I Need?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Typically, a driver will implement: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2" marL="1143000" indent="-228600"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Lucida Sans Unicode"/>
              </a:rPr>
              <a:t>open()</a:t>
            </a:r>
            <a:endParaRPr b="0" lang="en-US" sz="1800" spc="-1" strike="noStrike">
              <a:solidFill>
                <a:srgbClr val="003399"/>
              </a:solidFill>
              <a:latin typeface="Lucida Sans Unicode"/>
            </a:endParaRPr>
          </a:p>
          <a:p>
            <a:pPr lvl="2" marL="1143000" indent="-228600"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Lucida Sans Unicode"/>
              </a:rPr>
              <a:t>release() </a:t>
            </a:r>
            <a:endParaRPr b="0" lang="en-US" sz="1800" spc="-1" strike="noStrike">
              <a:solidFill>
                <a:srgbClr val="003399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339933"/>
              </a:buClr>
              <a:buFont typeface="Lucida Sans Unicod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Lucida Sans Unicode"/>
              </a:rPr>
              <a:t>a.k.a., the user-space </a:t>
            </a:r>
            <a:r>
              <a:rPr b="0" lang="en-US" sz="1600" spc="-1" strike="noStrike">
                <a:solidFill>
                  <a:srgbClr val="cc0000"/>
                </a:solidFill>
                <a:latin typeface="Lucida Sans Unicode"/>
              </a:rPr>
              <a:t>close()</a:t>
            </a:r>
            <a:endParaRPr b="0" lang="en-US" sz="1600" spc="-1" strike="noStrike">
              <a:solidFill>
                <a:srgbClr val="003399"/>
              </a:solidFill>
              <a:latin typeface="Lucida Sans Unicode"/>
            </a:endParaRPr>
          </a:p>
          <a:p>
            <a:pPr lvl="2" marL="1143000" indent="-228600"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Lucida Sans Unicode"/>
              </a:rPr>
              <a:t>read()</a:t>
            </a:r>
            <a:endParaRPr b="0" lang="en-US" sz="1800" spc="-1" strike="noStrike">
              <a:solidFill>
                <a:srgbClr val="003399"/>
              </a:solidFill>
              <a:latin typeface="Lucida Sans Unicode"/>
            </a:endParaRPr>
          </a:p>
          <a:p>
            <a:pPr lvl="2" marL="1143000" indent="-228600"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Lucida Sans Unicode"/>
              </a:rPr>
              <a:t>write()</a:t>
            </a:r>
            <a:endParaRPr b="0" lang="en-US" sz="1800" spc="-1" strike="noStrike">
              <a:solidFill>
                <a:srgbClr val="003399"/>
              </a:solidFill>
              <a:latin typeface="Lucida Sans Unicode"/>
            </a:endParaRPr>
          </a:p>
          <a:p>
            <a:pPr lvl="2" marL="1143000" indent="-228600">
              <a:spcBef>
                <a:spcPts val="451"/>
              </a:spcBef>
              <a:buClr>
                <a:srgbClr val="339933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Lucida Sans Unicode"/>
              </a:rPr>
              <a:t>ioctl()</a:t>
            </a:r>
            <a:endParaRPr b="0" lang="en-US" sz="18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Additional features like </a:t>
            </a:r>
            <a:r>
              <a:rPr b="0" lang="en-US" sz="2400" spc="-1" strike="noStrike">
                <a:solidFill>
                  <a:srgbClr val="cc0000"/>
                </a:solidFill>
                <a:latin typeface="Lucida Sans Unicode"/>
              </a:rPr>
              <a:t>mmap(), poll(), fasync(),</a:t>
            </a: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 and </a:t>
            </a:r>
            <a:r>
              <a:rPr b="0" lang="en-US" sz="2400" spc="-1" strike="noStrike">
                <a:solidFill>
                  <a:srgbClr val="cc0000"/>
                </a:solidFill>
                <a:latin typeface="Lucida Sans Unicode"/>
              </a:rPr>
              <a:t>flush()</a:t>
            </a: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 are nice to haves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You can add them at any time during development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Some methods like </a:t>
            </a:r>
            <a:r>
              <a:rPr b="0" lang="en-US" sz="2400" spc="-1" strike="noStrike">
                <a:solidFill>
                  <a:srgbClr val="cc0000"/>
                </a:solidFill>
                <a:latin typeface="Lucida Sans Unicode"/>
              </a:rPr>
              <a:t>llseek()</a:t>
            </a: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 and </a:t>
            </a:r>
            <a:r>
              <a:rPr b="0" lang="en-US" sz="2400" spc="-1" strike="noStrike">
                <a:solidFill>
                  <a:srgbClr val="cc0000"/>
                </a:solidFill>
                <a:latin typeface="Lucida Sans Unicode"/>
              </a:rPr>
              <a:t>readv()/writev()</a:t>
            </a: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 may not apply to your device 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You decide what to support and errors to return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7162920" y="1676520"/>
            <a:ext cx="1425600" cy="17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Initializing the file_operations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C99 tagged initialization of the structures allows you to initialize the fields by name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No worry about the structure layout (which may change between kernel revisions)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Un-initialized function entries in the structure shown below will be initialized to NULL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uct file_operations fops = {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read    = my_read,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write   = my_write,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ioctl   = my_ioctl,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open    = my_open,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release = my_release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Debugging Device Drivers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Statically-linked device drivers are notoriously difficult to debug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An error can cause a panic or oops before you can even get </a:t>
            </a:r>
            <a:r>
              <a:rPr b="0" lang="en-US" sz="2400" spc="-1" strike="noStrike">
                <a:solidFill>
                  <a:srgbClr val="cc0000"/>
                </a:solidFill>
                <a:latin typeface="Lucida Sans Unicode"/>
              </a:rPr>
              <a:t>printk()</a:t>
            </a: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 to work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These will typically require a JTAG to debug them easily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Dynamically-linked drivers are marginally easier because you can get more debugging infrastructure into place before loading them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The use of </a:t>
            </a:r>
            <a:r>
              <a:rPr b="0" lang="en-US" sz="2400" spc="-1" strike="noStrike">
                <a:solidFill>
                  <a:srgbClr val="cc0000"/>
                </a:solidFill>
                <a:latin typeface="Lucida Sans Unicode"/>
              </a:rPr>
              <a:t>read_proc()</a:t>
            </a: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/</a:t>
            </a:r>
            <a:r>
              <a:rPr b="0" lang="en-US" sz="2400" spc="-1" strike="noStrike">
                <a:solidFill>
                  <a:srgbClr val="cc0000"/>
                </a:solidFill>
                <a:latin typeface="Lucida Sans Unicode"/>
              </a:rPr>
              <a:t>write_proc()</a:t>
            </a: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 functions and </a:t>
            </a:r>
            <a:r>
              <a:rPr b="0" lang="en-US" sz="2400" spc="-1" strike="noStrike">
                <a:solidFill>
                  <a:srgbClr val="cc0000"/>
                </a:solidFill>
                <a:latin typeface="Lucida Sans Unicode"/>
              </a:rPr>
              <a:t>printk()</a:t>
            </a: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 are typical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JTAGs can help here too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Hardware Debugging Tools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320" y="1142640"/>
            <a:ext cx="6883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The traditional hardware debug tool was the In-Circuit Emulator (ICE)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A device that plugged into the CPU socket and emulated the CPU itself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These were rather expensive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$30K+ for the good ones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Today, most devices that call themselves an ICE are actually JTAGs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781680" y="1676520"/>
            <a:ext cx="1886040" cy="13827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7086600" y="3505320"/>
            <a:ext cx="1359000" cy="19526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539480" y="3048120"/>
            <a:ext cx="131004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Source: Avocet Syste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373160" y="5562720"/>
            <a:ext cx="139068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Source: Hitex Devel Too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Lucida Sans Unicode"/>
              </a:rPr>
              <a:t>Why the Traditional ICE has Faded Away</a:t>
            </a:r>
            <a:endParaRPr b="1" lang="en-US" sz="36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320" y="1142640"/>
            <a:ext cx="6883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The biggest problem faced by the ICE concept was the increasing pin counts of processors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E.g., 939 pins for the Athlon-64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Each pin required a wire to the ICE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Each wire started to become an antenna as frequencies increased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Processors also started to move to Ball Grid Array (BGA) packages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No way to get to the pins in the center of the part because the part is soldered to the motherboard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7086600" y="1295280"/>
            <a:ext cx="1447920" cy="118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7162920" y="2851200"/>
            <a:ext cx="1371600" cy="1339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854840" y="2514600"/>
            <a:ext cx="78264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Source: Int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70960" y="4267080"/>
            <a:ext cx="79812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Source: AM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7086600" y="4678200"/>
            <a:ext cx="1523880" cy="12211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730280" y="5943600"/>
            <a:ext cx="74304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Source: E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What We Will Talk About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What are we trying to do?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Hardware debuggers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What is JTAG?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How does it work?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Board bring up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The Linux boot sequence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Debugging the kernel and device drivers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Enter the JTAG Port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5632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The Joint Test Action Group (JTAG) is the name associated with the IEEE 1149.1 standard entitled </a:t>
            </a:r>
            <a:r>
              <a:rPr b="0" i="1" lang="en-US" sz="2800" spc="-1" strike="noStrike">
                <a:solidFill>
                  <a:srgbClr val="003399"/>
                </a:solidFill>
                <a:latin typeface="Lucida Sans Unicode"/>
              </a:rPr>
              <a:t>Standard Test Access Port and Boundary-Scan Architecture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Originally introduced in 1990 as a means to test printed circuit boards 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An alternative to the </a:t>
            </a:r>
            <a:r>
              <a:rPr b="0" i="1" lang="en-US" sz="2400" spc="-1" strike="noStrike">
                <a:solidFill>
                  <a:srgbClr val="003399"/>
                </a:solidFill>
                <a:latin typeface="Lucida Sans Unicode"/>
              </a:rPr>
              <a:t>bed of nails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943600" y="2590920"/>
            <a:ext cx="2819520" cy="2477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7263360" y="5181480"/>
            <a:ext cx="130680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Source: Test Electroni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How JTAG Works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JTAG is a boundary-scan device that allows the developer to sample the values of lines on the device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Allows you to change those values as well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JTAG is built to allow chaining of multiple devices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Works for multi-core processors, too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JTAG Details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JTAG is a simple serial protocol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Configuration is done by manipulating the state machine of the device via the TMS line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2514600" y="2863800"/>
            <a:ext cx="6172200" cy="316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JTAG-Aware Processors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Most embedded processors today support JTAG or one of its relatives like BDM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E.g., ARM/XScale, PPC, MIPS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Even the x86 has a JTAG port although it is rarely wired out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Grandma can barely send e-mail, let alone know what to do with a JTAG port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Some processors like MIPS come in different versions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Some with JTAG ports for development, some without in order to save $$$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JTAG Vendors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Several different vendors sell JTAG port interface hardware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JTAG is also referred to as On-Chip Debugging (OCD)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Here are a few of the vendors: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Wind River Systems (http://www.windriver.com)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Abatron AG (http://www.abatron.ch)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American Arium (http://www.arium.com)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Mentor Graphics (</a:t>
            </a:r>
            <a:r>
              <a:rPr b="0" lang="en-US" sz="2400" spc="-1" strike="noStrike" u="sng">
                <a:solidFill>
                  <a:srgbClr val="008000"/>
                </a:solidFill>
                <a:uFillTx/>
                <a:latin typeface="Lucida Sans Unicode"/>
                <a:hlinkClick r:id="rId3"/>
              </a:rPr>
              <a:t>http://www.epitools.com</a:t>
            </a: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)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Some vendors do certain processors better than others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MIPS will usually have a more custom EJTAG interface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JTAG Connections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The maximum speed of JTAG is 100 MHz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A ribbon cable is usually sufficient to connect to the target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Connection to the development host is accomplished via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Parallel port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USB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Serial port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Ethernet 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5867280" y="3581280"/>
            <a:ext cx="2222640" cy="22129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4724280" y="3124080"/>
            <a:ext cx="1778040" cy="1181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3733920" y="4648320"/>
            <a:ext cx="1371600" cy="1060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831360" y="5715000"/>
            <a:ext cx="95508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Source: Abatr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05920" y="4060800"/>
            <a:ext cx="107820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Source: Wind Ri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90840" y="5715000"/>
            <a:ext cx="90324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Source: Olim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JTAG User Interface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320" y="1142640"/>
            <a:ext cx="5006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Some JTAG interfaces use a GDB-style software interface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Any GDB-aware front end will work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Others have Eclipse plug-ins to access the JTAG via an IDE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Some still use a command line interface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5181480" y="1676520"/>
            <a:ext cx="3886200" cy="30319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934760" y="4800600"/>
            <a:ext cx="107820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Source: Wind Ri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What can you do with a JTAG?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Typical JTAG usage includes reflashing boot firmware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Even the really cheap JTAG units can do this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However, it is in the use as a debugging aid that JTAG comes into its own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You can set hardware or software breakpoints and debug in source code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Sophisticated breakpoint strategies and multi-core debugging usually require the more expensive units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JTAG units can also be used to exercise the address bus and peripherals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This is what JTAG was originally designed for 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Hardware Configuration Files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Most JTAG units require you to describe the hardware registers in a configuration file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This is also how you describe what processor architecture you are using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All of that information about register maps that you collected earlier now goes into the configuration file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Unfortunately, there is no standard format for these configuration files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Each JTAG vendor uses different syntax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Example Configuration Files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Many JTAG units split the configuration files into a CPU register file and a board configuration file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609480" y="2743200"/>
            <a:ext cx="5486400" cy="990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2057400" y="3911760"/>
            <a:ext cx="6477120" cy="21603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723280" y="6172200"/>
            <a:ext cx="95508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Source: Abatr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What are we trying to do?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The board bring-up process is loaded with potential gotchas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Obtaining data sheets may be near impossible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The hardware may or may not be working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The boot firmware may have restrictive licensing issues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There are two phases of device driver development that we’ll need to address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Getting the board to work at all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Adding features for peripherals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Developing the Configuration File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The JTAG vendor will likely already have a register file for the processor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ARM920, PPC8241, etc.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Your task will be to develop the board configuration file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There may be a configuration file for the reference board that you can use as a starting point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The configuration file is essentially a script of commands to initialize the target board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You keep working on it until you can initialize memory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Once memory is on-line, you should then be able to write values into memory via the JTAG that can be read back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Then, enhance the configuration to initialize other peripherals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Linux-Aware JTAGs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320" y="1142640"/>
            <a:ext cx="9067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There are several rather tricky transitions during the Linux booting process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Transitioning from flash to RAM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Transitioning from physical addresses to kernel virtual addresses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These transitions require the use of hardware breakpoints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Make sure that your JTAG is “Linux aware”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It must understand Linux’s use of the MMU to be of much use for driver debugging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The Linux Boot Sequence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Like the boot firmware, the Linux kernel starts in assembly language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Sets up the caches, initializes some MMU page table entries, configures a “C” stack and jumps to a C entry point called </a:t>
            </a:r>
            <a:r>
              <a:rPr b="0" lang="en-US" sz="2000" spc="-1" strike="noStrike">
                <a:solidFill>
                  <a:srgbClr val="cc0000"/>
                </a:solidFill>
                <a:latin typeface="Lucida Sans Unicode"/>
              </a:rPr>
              <a:t>start_kernel()</a:t>
            </a: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 (init/main.c) 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Lucida Sans Unicode"/>
              </a:rPr>
              <a:t>start_kernel()</a:t>
            </a: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 is then responsible for: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Architecture and machine-specific hardware initialization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Initializing virtual memory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Starting the system clock tick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Initializing kernel subsystems and device drivers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Finally, a system console is started and the init process is created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The init process (PID 1) is then the start of all user-space processing 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JTAG and Early Kernel Debug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An odd thing happens when the MMU is enabled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All of the physical addresses suddenly get translated into virtual addresses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The kernel’s debug symbols are all built assuming a virtual address space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You’ll need to turn debugging symbols on in the kernel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Consequently, while you can step through the early code by using a hardware breakpoint address, software breakpoint on symbols will only work after the MMU is enabled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Fortunately, this happens fairly early in the kernel initialization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You can typically tell the JTAG to step so many instructions and then stop again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Step past the MMU initialization, stop and then set additional breakpoints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Configure Kernel for Debugging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Enable debugging info and rebuild the kernel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990720" y="1690560"/>
            <a:ext cx="7315200" cy="44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Loading Symbols into the JTAG UI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Depending on the JTAG UI, you may simply have to load the kernel’s vmlinux image to be able to access the symbols by name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The techniques for doing this vary by JTAG vendor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Attach the JTAG to the hardware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Reset the board via JTAG and hold in reset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Set H/W breakpoint using the JTAG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Load the vmlinux via the JTAG (this loads the symbols)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Command the JTAG to tell the hardware to “go”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Once you encounter the hardware breakpoint, you can step in assembly until the MMU is enabled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The MMU will translate physical addresses to virtual addresses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Once virtual addressing is on, set breakpoints as normal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Using JTAG to Dump printk Buffer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If you kernel hangs right after displaying “Uncompressing Kernel Image … OK” message…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You probably have printk() output, but the serial console isn’t initialized yet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We can dump the printk buffer using the JTAG!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Look in the kernel’s System.map file for something like “__log_buf”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 grep __log_buf /boot/System.map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0445980 b __log_buf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Dumping printk Buffer #2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The address of the buffer is a translated kernel address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Strip off the 0xC0000000 portion of the address to get (typically) the physical address on processors like the X86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i.e., 0xc0445980 would typically be at physical address 0x445980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You must understand your processor to do the translations correctly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Now, use the JTAG to dump that address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Raw printk output, but you can get an idea of what it was doing when it crashed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Data is still there even after reset (but not power-off) 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GDB-Aware JTAGs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If the JTAG is GDB-aware, then you will be able to control it using normal GDB commands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Attach to the JTAG via “target remote xx” command where “xx” is via Ethernet, serial or other connection between your JTAG and the host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Use the GDB “mon” command to pass commands directly to the JTAG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DDD GUI Front-End Example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4537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Invoked from command line with vmlinux compiled for debugging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Then attach to JTAG using “target remote” command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4687920" y="1219320"/>
            <a:ext cx="4303800" cy="444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Porting Linux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Bringing Linux up on a new board will require some knowledge of assembly language for your processor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There are several transitions from assembly to “C” and back if we’re using zImages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Debugging at this level will require the use of JTAGs, or other hardware assistance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Never underestimate the power of an LED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848720" y="4724280"/>
            <a:ext cx="1123920" cy="89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Debugging Device Drivers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Statically linked driver symbols are already built into the kernel’s symbol table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Simply set break points on the driver methods themselves 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Dynamically loaded drivers require additional steps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We need to find the addresses used by the driver 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The next few charts assume a GDB-aware JTAG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Debugging Loadable Modules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In order to debug a loaded module, we need to tell the debugger where the module is in memory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The module’s information is not in the vmlinux image because that shows only statically linked drivers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How we proceed depends on where we need to debug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If we need to debug the __init code, we need to set a breakpoint in the sys_init_module() function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Debugging Loadable Modules #2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We’ll need to breakpoint just before the control is transferred to the module’s __init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Somewhere around line 1907 of module.c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Once the breakpoint is encountered, we can walk the module address list to find the assigned address for the module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We then use the add-symbol-file GDB command to add the debug symbols for the driver at the address for the loaded module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E.g., 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-symbol-file ./mydriver.ko 0x&lt;addr&gt; -e .init.text</a:t>
            </a:r>
            <a:endParaRPr b="0" lang="en-US" sz="18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Debugging Loadable Modules #3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Now, you can set breakpoints via the GDB commands to the JTAG and tell the system to continue until a breakpoint in encountered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What if the __init is Working?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If you do not need to debug the __init code, then load the driver and look in the /sys/modules/&lt;module name&gt;/sections/.text for the address of the text segment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Next, use the add-symbol-file command again, but use the .text address and omit the “–e .init.text”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Set your breakpoints and continue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User-Space Addresses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Within Linux, each user-space application occupy the same virtual address space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The address spaces are physically different, but the addresses overlap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390760" y="3352680"/>
            <a:ext cx="809640" cy="2438280"/>
            <a:chOff x="2390760" y="3352680"/>
            <a:chExt cx="809640" cy="2438280"/>
          </a:xfrm>
        </p:grpSpPr>
        <p:sp>
          <p:nvSpPr>
            <p:cNvPr id="215" name=""/>
            <p:cNvSpPr/>
            <p:nvPr/>
          </p:nvSpPr>
          <p:spPr>
            <a:xfrm>
              <a:off x="2390760" y="3352680"/>
              <a:ext cx="809640" cy="2757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Sans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390760" y="5469120"/>
              <a:ext cx="809640" cy="3218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390760" y="5147280"/>
              <a:ext cx="809640" cy="321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90760" y="4088520"/>
              <a:ext cx="809640" cy="10584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Sans"/>
                </a:rPr>
                <a:t>He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2819160" y="4640760"/>
              <a:ext cx="0" cy="275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90760" y="3720600"/>
              <a:ext cx="809640" cy="2757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Sans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19160" y="4088520"/>
              <a:ext cx="0" cy="275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390760" y="3996720"/>
              <a:ext cx="809640" cy="918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Lucida Sans"/>
                </a:rPr>
                <a:t>GUAR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390760" y="3628440"/>
              <a:ext cx="809640" cy="918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Lucida Sans"/>
                </a:rPr>
                <a:t>GUAR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3562200" y="3352680"/>
            <a:ext cx="809640" cy="2438280"/>
            <a:chOff x="3562200" y="3352680"/>
            <a:chExt cx="809640" cy="2438280"/>
          </a:xfrm>
        </p:grpSpPr>
        <p:sp>
          <p:nvSpPr>
            <p:cNvPr id="225" name=""/>
            <p:cNvSpPr/>
            <p:nvPr/>
          </p:nvSpPr>
          <p:spPr>
            <a:xfrm>
              <a:off x="3562200" y="3352680"/>
              <a:ext cx="809640" cy="2757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Sans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62200" y="5469120"/>
              <a:ext cx="809640" cy="3218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62200" y="5147280"/>
              <a:ext cx="809640" cy="321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562200" y="4088520"/>
              <a:ext cx="809640" cy="10584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Sans"/>
                </a:rPr>
                <a:t>He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3990600" y="4640760"/>
              <a:ext cx="0" cy="275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62200" y="3720600"/>
              <a:ext cx="809640" cy="2757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Sans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90600" y="4088520"/>
              <a:ext cx="0" cy="275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562200" y="3996720"/>
              <a:ext cx="809640" cy="918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Lucida Sans"/>
                </a:rPr>
                <a:t>GUAR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62200" y="3628440"/>
              <a:ext cx="809640" cy="918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Lucida Sans"/>
                </a:rPr>
                <a:t>GUAR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6048360" y="3352680"/>
            <a:ext cx="809640" cy="2438280"/>
            <a:chOff x="6048360" y="3352680"/>
            <a:chExt cx="809640" cy="2438280"/>
          </a:xfrm>
        </p:grpSpPr>
        <p:sp>
          <p:nvSpPr>
            <p:cNvPr id="235" name=""/>
            <p:cNvSpPr/>
            <p:nvPr/>
          </p:nvSpPr>
          <p:spPr>
            <a:xfrm>
              <a:off x="6048360" y="3352680"/>
              <a:ext cx="809640" cy="2757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Sans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48360" y="5469120"/>
              <a:ext cx="809640" cy="3218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048360" y="5147280"/>
              <a:ext cx="809640" cy="321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48360" y="4088520"/>
              <a:ext cx="809640" cy="10584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Sans"/>
                </a:rPr>
                <a:t>He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6476760" y="4640760"/>
              <a:ext cx="0" cy="275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048360" y="3720600"/>
              <a:ext cx="809640" cy="2757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Sans"/>
                </a:rPr>
                <a:t>Sta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76760" y="4088520"/>
              <a:ext cx="0" cy="275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48360" y="3996720"/>
              <a:ext cx="809640" cy="918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Lucida Sans"/>
                </a:rPr>
                <a:t>GUAR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048360" y="3628440"/>
              <a:ext cx="809640" cy="918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Lucida Sans"/>
                </a:rPr>
                <a:t>GUAR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338120" y="5710320"/>
            <a:ext cx="8208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0x1000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07880" y="3276720"/>
            <a:ext cx="89244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0x80000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950720" y="4197240"/>
            <a:ext cx="5281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14600" y="5791320"/>
            <a:ext cx="5220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App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700440" y="5791320"/>
            <a:ext cx="5220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App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93800" y="5791320"/>
            <a:ext cx="52812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App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JTAG Confusion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JTAGs normally run in what is called </a:t>
            </a:r>
            <a:r>
              <a:rPr b="0" i="1" lang="en-US" sz="2800" spc="-1" strike="noStrike">
                <a:solidFill>
                  <a:srgbClr val="003399"/>
                </a:solidFill>
                <a:latin typeface="Lucida Sans Unicode"/>
              </a:rPr>
              <a:t>halt mode</a:t>
            </a: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 debugging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The entire processor is stopped when a given breakpoint address is accessed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This works reasonably well in kernel space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Only one kernel address space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While it is possible to debug user applications with the JTAG, the JTAG can get confused by seeing the same virtual address in different applications due to context switches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This requires </a:t>
            </a:r>
            <a:r>
              <a:rPr b="0" i="1" lang="en-US" sz="2400" spc="-1" strike="noStrike">
                <a:solidFill>
                  <a:srgbClr val="003399"/>
                </a:solidFill>
                <a:latin typeface="Lucida Sans Unicode"/>
              </a:rPr>
              <a:t>run mode</a:t>
            </a: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 support for the JTAG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Run-Mode Support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Using a debugging agent in user space and register support like the ARM’s Debug Communications Channel (DCC) we can associate a virtual address to a particular context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This allows the breakpoint to only stop the one application instead of any application that matches the address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Only a few JTAGs support this run mode debugging mechanism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Otherwise, we are left with normal GDB process trace (ptrace) debugging control via an application like gdbserver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Naturally, GDB already does a reasonable job for user-space debugging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The need to use JTAG for user-space debug is rare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181440"/>
            <a:ext cx="9145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Summary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8670960" y="6019920"/>
            <a:ext cx="473040" cy="4316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Hardware debuggers such as JTAG are invaluable for exercising new hardware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They let us test address lines and registers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Once we can configure the board via the JTAG, we then take that info and use it to port the boot firmware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Lucida Sans Unicode"/>
              </a:rPr>
              <a:t>We can usually burn the boot firmware into flash via the JTAG as well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Once the boot firmware is loading Linux, the JTAG can then help again in early kernel debugging and device driver debugging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Don’t start your next bring-up project without one!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Demo time…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Device Drivers in Linux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Linux has several driver types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Character, block, network, etc.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Linux uses a formal driver model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Drivers present a common API such as </a:t>
            </a:r>
            <a:r>
              <a:rPr b="0" lang="en-US" sz="2800" spc="-1" strike="noStrike">
                <a:solidFill>
                  <a:srgbClr val="cc0000"/>
                </a:solidFill>
                <a:latin typeface="Lucida Sans Unicode"/>
              </a:rPr>
              <a:t>open()</a:t>
            </a: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, </a:t>
            </a:r>
            <a:r>
              <a:rPr b="0" lang="en-US" sz="2800" spc="-1" strike="noStrike">
                <a:solidFill>
                  <a:srgbClr val="cc0000"/>
                </a:solidFill>
                <a:latin typeface="Lucida Sans Unicode"/>
              </a:rPr>
              <a:t>release()</a:t>
            </a: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, </a:t>
            </a:r>
            <a:r>
              <a:rPr b="0" lang="en-US" sz="2800" spc="-1" strike="noStrike">
                <a:solidFill>
                  <a:srgbClr val="cc0000"/>
                </a:solidFill>
                <a:latin typeface="Lucida Sans Unicode"/>
              </a:rPr>
              <a:t>read()</a:t>
            </a: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, </a:t>
            </a:r>
            <a:r>
              <a:rPr b="0" lang="en-US" sz="2800" spc="-1" strike="noStrike">
                <a:solidFill>
                  <a:srgbClr val="cc0000"/>
                </a:solidFill>
                <a:latin typeface="Lucida Sans Unicode"/>
              </a:rPr>
              <a:t>write()</a:t>
            </a: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, etc.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User-mode device drivers are also possible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Via </a:t>
            </a:r>
            <a:r>
              <a:rPr b="0" lang="en-US" sz="2800" spc="-1" strike="noStrike">
                <a:solidFill>
                  <a:srgbClr val="008000"/>
                </a:solidFill>
                <a:latin typeface="Lucida Sans Unicode"/>
              </a:rPr>
              <a:t>/dev/mem</a:t>
            </a: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, </a:t>
            </a:r>
            <a:r>
              <a:rPr b="0" lang="en-US" sz="2800" spc="-1" strike="noStrike">
                <a:solidFill>
                  <a:srgbClr val="008000"/>
                </a:solidFill>
                <a:latin typeface="Lucida Sans Unicode"/>
              </a:rPr>
              <a:t>/dev/ioports</a:t>
            </a: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, etc.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Easier to debug using standard GDB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Lucida Sans Unicode"/>
              </a:rPr>
              <a:t>Statically Linked – Dynamically Loaded</a:t>
            </a:r>
            <a:endParaRPr b="1" lang="en-US" sz="36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The typical kernel-mode driver can be statically linked into the kernel at kernel build time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Must be GPL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Initialized in </a:t>
            </a:r>
            <a:r>
              <a:rPr b="0" lang="en-US" sz="2800" spc="-1" strike="noStrike">
                <a:solidFill>
                  <a:srgbClr val="cc0000"/>
                </a:solidFill>
                <a:latin typeface="Lucida Sans Unicode"/>
              </a:rPr>
              <a:t>start_kernel()</a:t>
            </a: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 sequence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Dynamically-loaded drivers, a.k.a. kernel modules are loaded after the kernel is booted and init is running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Can be loaded from initramfs/initrd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Can have proprietary licenses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Driver Initialization Sequence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Drivers must register themselves with the kernel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Lucida Sans Unicode"/>
              </a:rPr>
              <a:t>register_chrdev()</a:t>
            </a: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, </a:t>
            </a:r>
            <a:r>
              <a:rPr b="0" lang="en-US" sz="2800" spc="-1" strike="noStrike">
                <a:solidFill>
                  <a:srgbClr val="cc0000"/>
                </a:solidFill>
                <a:latin typeface="Lucida Sans Unicode"/>
              </a:rPr>
              <a:t>register_blkdev()</a:t>
            </a: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, </a:t>
            </a:r>
            <a:r>
              <a:rPr b="0" lang="en-US" sz="2800" spc="-1" strike="noStrike">
                <a:solidFill>
                  <a:srgbClr val="cc0000"/>
                </a:solidFill>
                <a:latin typeface="Lucida Sans Unicode"/>
              </a:rPr>
              <a:t>register_netdev()</a:t>
            </a: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, etc.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For block and character drivers you’ll need to assign major/minor numbers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Can be done statically or dynamically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Coordinate with </a:t>
            </a:r>
            <a:r>
              <a:rPr b="0" lang="en-US" sz="2800" spc="-1" strike="noStrike">
                <a:solidFill>
                  <a:srgbClr val="008000"/>
                </a:solidFill>
                <a:latin typeface="Lucida Sans Unicode"/>
              </a:rPr>
              <a:t>&lt;linux&gt;/Documentation/devices.txt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Lucida Sans Unicode"/>
              </a:rPr>
              <a:t>You’ll need to create device nodes as well</a:t>
            </a:r>
            <a:endParaRPr b="0" lang="en-US" sz="32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Statically or via UDEV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Loadable Module Example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11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linux/module.h&gt;</a:t>
            </a:r>
            <a:endParaRPr b="0" lang="en-US" sz="16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11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linux/init.h&gt;</a:t>
            </a:r>
            <a:endParaRPr b="0" lang="en-US" sz="16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11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linux/kernel.h&gt;</a:t>
            </a:r>
            <a:endParaRPr b="0" lang="en-US" sz="16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11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define MODULE_NAME “celf"</a:t>
            </a:r>
            <a:endParaRPr b="0" lang="en-US" sz="16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11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__init celf_init_module(void) {</a:t>
            </a:r>
            <a:endParaRPr b="0" lang="en-US" sz="16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11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k(“celf_init_module() called, ");</a:t>
            </a:r>
            <a:endParaRPr b="0" lang="en-US" sz="16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11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11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11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__exit celf_cleanup_module(void) {</a:t>
            </a:r>
            <a:endParaRPr b="0" lang="en-US" sz="16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11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k(“celf_cleanup_module() called\n");</a:t>
            </a:r>
            <a:endParaRPr b="0" lang="en-US" sz="16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11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11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dule_init(celf_init_module);</a:t>
            </a:r>
            <a:endParaRPr b="0" lang="en-US" sz="16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SzPct val="11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dule_exit(celf_cleanup_module);</a:t>
            </a:r>
            <a:endParaRPr b="0" lang="en-US" sz="16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Lucida Sans Unicode"/>
              </a:rPr>
              <a:t>Old School Driver Registration</a:t>
            </a:r>
            <a:endParaRPr b="1" lang="en-US" sz="4000" spc="-1" strike="noStrike">
              <a:solidFill>
                <a:srgbClr val="003399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320" y="1142640"/>
            <a:ext cx="7115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Kernel is made aware of a character device driver when the driver registers itself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Typically in the </a:t>
            </a:r>
            <a:r>
              <a:rPr b="0" lang="en-US" sz="2400" spc="-1" strike="noStrike">
                <a:solidFill>
                  <a:srgbClr val="cc0000"/>
                </a:solidFill>
                <a:latin typeface="Lucida Sans Unicode"/>
              </a:rPr>
              <a:t>__init</a:t>
            </a: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 function</a:t>
            </a:r>
            <a:endParaRPr b="0" lang="en-US" sz="24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Lucida Sans Unicode"/>
              </a:rPr>
              <a:t>Registration makes the association between the major number and device driver</a:t>
            </a:r>
            <a:endParaRPr b="0" lang="en-US" sz="28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register_chrdev(unsigned int major, const char *name, struct file_operations *fops)</a:t>
            </a: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Lucida Sans Unicode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934320" y="2057400"/>
            <a:ext cx="1714320" cy="220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© 2008 The PTR Group Inc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Lanning</cp:lastModifiedBy>
  <dcterms:modified xsi:type="dcterms:W3CDTF">2008-05-01T20:37:12Z</dcterms:modified>
  <cp:revision>5</cp:revision>
  <dc:subject/>
  <dc:title>Using a JTAG in Linux Bring-up and Kernel Debugging</dc:title>
</cp:coreProperties>
</file>